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2B8-89E6-4899-A449-973AFFC9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9614-09BF-4209-A3E2-9CC7361D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01F-29EB-4557-ABDB-76FC3B50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5D5-E022-4BBC-B23A-696F5544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2437-A088-487B-9849-0D1CD64E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E68D-3D9C-4533-A5EA-BFA70077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3A8-9905-4B19-8EEC-066586BF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493-E803-483B-8802-94681C60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A73-DC2C-4999-B0EA-2656D145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CB43-23F4-47FE-8232-1298AAEA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6195-8539-40E3-A0B1-C9F7859A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54E-9D7B-42D0-A329-E75372D3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BD64-0733-448A-B0A6-2EAFF6E66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low Solid Italic"/>
              </a:rPr>
              <a:t>The Coordinate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points on a coordinate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ot the point (-2,-3) with a orange d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486560" cy="428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d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ur regions on a coordinate plane are called “quadra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219640" cy="299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700240" y="29354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6320" y="28591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32280" y="476424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76560" y="46879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 signs to find the Quadr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,P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,N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,P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,N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514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638680" y="34290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5240" y="175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53080" y="2627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05160" y="2627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28840" y="37702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53080" y="37702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10040" y="1600200"/>
            <a:ext cx="209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n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10040" y="2209680"/>
            <a:ext cx="237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nt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2819520"/>
            <a:ext cx="238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nt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342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n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a point in Quadran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200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a point in Quadran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52200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a point in Quadrant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2200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a point in Quadran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2200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planes have an x-axis, y-axis, and an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on a Coordinate plane are identified with an ordered pair. 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ordinate plane has four regions called “quadrant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ordinate Plane h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6877080" cy="3940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499280" y="2133720"/>
            <a:ext cx="237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ertical number l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the “y-axi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92920" y="4075200"/>
            <a:ext cx="232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orizontal numb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called the x-ax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648320"/>
            <a:ext cx="244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41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54800">
            <a:off x="3352680" y="388620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the Origin with a green do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182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ntify the x-axis with a blue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953040" cy="398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y-axis with a red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182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red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oint on a coordinate plane corresponds to a ordered p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number is the x-coord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ond is the y-coordi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as (x,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182000" cy="4114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86400" y="3276720"/>
            <a:ext cx="15552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1880" y="28954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31240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8480" y="2362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588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4480" y="4608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64120" y="556272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2,-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4280" y="2133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5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6120" y="4495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-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2286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5638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34280" cy="4202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705720" y="3200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66880" y="2895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5638680"/>
            <a:ext cx="22860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640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72160" y="4303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91680" y="28558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24840" y="5218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ef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ot the point (3,2) with a pink d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486920" cy="428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24:23Z</dcterms:created>
  <dc:creator>JRatliff</dc:creator>
  <dc:description/>
  <dc:language>en-US</dc:language>
  <cp:lastModifiedBy>JRatliff</cp:lastModifiedBy>
  <dcterms:modified xsi:type="dcterms:W3CDTF">2008-10-20T19:23:54Z</dcterms:modified>
  <cp:revision>2</cp:revision>
  <dc:subject/>
  <dc:title>Slide 1</dc:title>
</cp:coreProperties>
</file>